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FCE-6D60-4216-AF52-7596304F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658-EF9E-46B6-A9EB-986FE9E3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1AD-C1EA-4D4A-AFA9-695736EF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E32-FCB8-4D71-A667-796784CB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A5D-9BFD-4F2D-A583-D6A04BB0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81D-8A67-4C7B-8261-D1D9DD48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02D-8CF3-416D-8C25-2083461C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882-4DDE-4114-ADC4-385E4DDF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B59-5624-40AF-A76A-6FD74568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9B0-652C-4534-853E-EF9E5605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7D2-4D29-49F2-9F46-94BC302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E47-DA1B-4ACE-B476-FA4254A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1BA2-44B0-4095-8E68-ED5A7339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Lucida Handwriting"/>
              </a:rPr>
              <a:t>LA VIL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680000" cy="465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DÉCRIRE UNE 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ille est située dans le nord / le sud / l’est / l’o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lle est en Andalousie (rég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lle est près de / loi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’est une grande / petit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ombien d’habitants a-t-elle? Elle a 10000 habit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y a un fleuve / un océan / la mer / une montagne / la campag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y a beaucoup de magasins, cinémas, restaurants, collèges, banqu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8214"/>
                </a:solidFill>
                <a:latin typeface="Arial"/>
              </a:rPr>
              <a:t>GRA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S ARTICLES CONTRAC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JE VAIS / JE S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À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À 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AU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collè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À LA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bibliothè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À L’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ég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AUX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magas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JE V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    +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E 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8000"/>
                </a:solidFill>
                <a:latin typeface="Arial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U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llè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E LA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bibliothè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E L’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ég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Je viens </a:t>
            </a:r>
            <a:r>
              <a:rPr b="1" i="1" lang="es-ES" sz="1400" spc="-1" strike="noStrike">
                <a:solidFill>
                  <a:srgbClr val="008000"/>
                </a:solidFill>
                <a:latin typeface="Arial"/>
              </a:rPr>
              <a:t>DES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agas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 PRONOM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6633"/>
                </a:solidFill>
                <a:latin typeface="Arial"/>
              </a:rPr>
              <a:t>O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is ATTENTION!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ous achetON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800" spc="-1" strike="noStrike">
                <a:solidFill>
                  <a:srgbClr val="996633"/>
                </a:solidFill>
                <a:latin typeface="Arial"/>
              </a:rPr>
              <a:t>On ach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2205000"/>
            <a:ext cx="3024360" cy="1513080"/>
          </a:xfrm>
          <a:prstGeom prst="irregularSeal1">
            <a:avLst/>
          </a:prstGeom>
          <a:solidFill>
            <a:srgbClr val="bbe0e3">
              <a:alpha val="8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 FÉMI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859880" cy="47131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ègle générale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n ajout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–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u masculin. Ex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e marchand de fruits </a:t>
            </a:r>
            <a:r>
              <a:rPr b="0" i="1" lang="es-E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La marchande de fr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47640" y="2637000"/>
          <a:ext cx="4608720" cy="312732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91628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émin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libraire / la libr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è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boulanger / La boulang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coiffeur / la coiffe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harmacien / 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ien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rofesseu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55465"/>
                </a:solidFill>
                <a:latin typeface="Arial"/>
              </a:rPr>
              <a:t>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4038480" cy="4681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0000"/>
                </a:solidFill>
                <a:latin typeface="Arial"/>
              </a:rPr>
              <a:t>LES BATÎ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entre com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ollè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égl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jardin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rch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 m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765000"/>
            <a:ext cx="4038480" cy="4670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808080"/>
                </a:solidFill>
                <a:latin typeface="Arial"/>
              </a:rPr>
              <a:t>LA 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arrêt de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a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oulev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f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assage cloû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ié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trotto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vé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00000" y="1052280"/>
            <a:ext cx="3887640" cy="482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00"/>
                </a:solidFill>
                <a:latin typeface="Arial"/>
              </a:rPr>
              <a:t>LES MON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athéd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hâ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4038480" cy="452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cc00"/>
                </a:solidFill>
                <a:latin typeface="Arial"/>
              </a:rPr>
              <a:t>LES MAGA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oulang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harcu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librairie-pape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gasin de chau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gasin de vê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arfum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âtiss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 ph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salon de coiff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2920" y="764640"/>
            <a:ext cx="4038840" cy="4526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6600"/>
                </a:solidFill>
                <a:latin typeface="Arial"/>
              </a:rPr>
              <a:t>LES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oulange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boulan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harcutier 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harcut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âtissie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âtiss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infirmier 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coiffeu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coiff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serveu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serv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vendeur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end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harmacien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pharmaci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archad 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marcha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libraire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libr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rofesseur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profe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4038480" cy="45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cc00"/>
                </a:solidFill>
                <a:latin typeface="Arial"/>
              </a:rPr>
              <a:t>LE CHE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a tout dro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ourne à gau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ourne à dro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verse la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asse devant le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2920" y="764640"/>
            <a:ext cx="4038840" cy="4526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66"/>
                </a:solidFill>
                <a:latin typeface="Arial"/>
              </a:rPr>
              <a:t>DANS L’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vant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rr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 gauche de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 droi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À côté de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 fac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800080"/>
                </a:solidFill>
                <a:latin typeface="Arial"/>
              </a:rPr>
              <a:t>OÙ JE VAIS / JE S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Au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ph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’hô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AU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 masc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 fémin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800080"/>
                </a:solidFill>
                <a:latin typeface="Arial"/>
              </a:rPr>
              <a:t>À 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 voy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03884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6600"/>
                </a:solidFill>
                <a:latin typeface="Arial"/>
              </a:rPr>
              <a:t>D’OÙ JE V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u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a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ph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’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ô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U </a:t>
            </a: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mascu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A </a:t>
            </a: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fémin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DE L’ </a:t>
            </a:r>
            <a:r>
              <a:rPr b="1" i="1" lang="es-ES" sz="16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+ voy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69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0033"/>
                </a:solidFill>
                <a:latin typeface="Arial"/>
              </a:rPr>
              <a:t>LES TRAN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’av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a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mé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tram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e vé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8840" cy="4526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0099"/>
                </a:solidFill>
                <a:latin typeface="Arial"/>
              </a:rPr>
              <a:t>Je v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990099"/>
                </a:solidFill>
                <a:latin typeface="Arial"/>
              </a:rPr>
              <a:t>EN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v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ba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m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o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é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990099"/>
                </a:solidFill>
                <a:latin typeface="Arial"/>
              </a:rPr>
              <a:t>À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é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8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Où se trouve le restaur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xcusez-moi, Monsieur, je cherche la banque, vous pouvez m’aider, s’il vous plaî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ous pouvez me dire où se trouve la piscine, s’il vous plaî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ombien coûte un stylo? Un euro quar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Ça fait combien? Trente cen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On va au centre commerci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Je viens du ciné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est huit heures, c’est fer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est pâtissi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l travaille dans une pâtisser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our nager, je vais à la pisc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9:24:03Z</dcterms:created>
  <dc:creator>ORTEGA</dc:creator>
  <dc:description/>
  <dc:language>en-US</dc:language>
  <cp:lastModifiedBy>ORTEGA</cp:lastModifiedBy>
  <dcterms:modified xsi:type="dcterms:W3CDTF">2010-05-25T16:58:59Z</dcterms:modified>
  <cp:revision>5</cp:revision>
  <dc:subject/>
  <dc:title>LA VILLE</dc:title>
</cp:coreProperties>
</file>